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79D2-E017-4196-8FAE-66F28FAECD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A6F-3E4A-4337-A0EB-39FB336A217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AD3-E21A-4D54-A1DF-C29CDB690BC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B450-9135-4E11-9B4F-8D08BFEA5FC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374-A1EF-497F-8C45-AC6CC1859C5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BB5-3AFB-40F7-9A3C-62F7C779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578-D103-408A-BC4A-BCF96A2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067-571D-4108-BA36-DE4181E1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0BE-1E50-49B2-AA7C-7097D7E1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06C-FA84-4011-886B-71D87C82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3893-AB6B-44F2-A5C6-77D9749C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E9C2-77A6-4D3C-AF8E-1415569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4DA-CDB5-4B0E-AA39-108831FD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73BF-BFAD-4AD9-A98C-F8DACD65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3FBC-177D-4CF5-913A-375012BC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A11-A9DC-4003-8C34-3EDA1528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B7D-C242-4FBB-9DE6-F46720B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CD1D-F065-4666-8550-D3070AC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3B4-7410-4BE4-9EC6-BA41E52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0258-CA6F-486F-8850-B2DE7FFC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73A0-1951-4B42-A11E-17AE1F58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A87D-8F9A-4B31-80B3-9D069D4D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16EF-E799-4B14-B423-A2592765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20CD-39AA-43F4-B2AD-E4769FC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A2BF-CA97-4B75-B757-66748070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FF80-D4EE-4EB4-BCC4-41C5E446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DA14-1077-45C0-8F2E-D67C9FC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A49-2DB2-41D3-93F6-D3101240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8038-CAF4-4F22-8566-E968F54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2C88-DCFF-446C-84C7-230D6B8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EDA9-2E02-4D35-BF5F-32C47E9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ED3C1-1AA6-424A-8B4C-7A902FA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0531-1C5D-4DFC-9537-8124F61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8F0D-9610-41DB-BFBE-269C7944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16A2-D2F5-461C-BA69-3236DE17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E1DD-2C6B-4C0D-BD43-EB1CC32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A081-4509-4DB3-ADAA-D9F06FEA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2364-6054-4E0A-883B-04D86C2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A20-F7CD-43C6-9836-B211CBC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F741-E0E0-4F41-A972-A67C75D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18B7-4D84-4146-8119-CE8F760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ED20-959A-48AC-BA2C-B206D556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FA74-8756-49CC-8E42-6864E3E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06C5-FBF9-4176-9155-C83FEDD0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8E99-FD38-4DEF-929C-A466346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C91B-A806-4E19-ABBB-F5B8AE43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10FA-5D29-49D3-BDCA-D83FA4C8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50AF-91C6-49AC-98E5-F2A89DB1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A2750-A7CC-4CF9-8990-E3EC0CA6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AF2-3C5A-4BED-899F-5A1576A6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0F5A5-DE71-4883-8D36-96AA3649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768E-8B4D-4016-94EA-602302FB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07DF-2BD3-4D65-A8D1-AD74541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9BFF-8921-47DE-9DFA-FCC7F6BA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52BC-2CAD-4CF7-B894-48456AA4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71AC-E9B8-45F3-91A4-11E5F3CF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662F-FAE9-4154-8482-07431FF1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C392-C436-4451-9017-BB3CCBC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BD94-9797-4F61-AEA0-A3222775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12F6-90F8-41C9-8F5C-2CADEE49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2DC-7DBC-4A73-9DCF-14E1E484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1BC7-8617-4379-849E-7E2E6AE8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16130-7F8E-4E10-9199-1786FBD9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BA8A-907D-4F29-9CFD-DC5D18C3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0ACC5-723A-41B9-BEF9-9DA8E15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99FE-7617-4AE0-A5E5-EE623C9F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595A-304A-4D80-B0C9-CE153C47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24DE7-A521-42A0-9D42-6311B672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30A5-0F31-4C5D-B2F4-DC9FD08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7D372-1546-404C-8047-62FDF0D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F6434-7A5D-460F-982D-E8F43D1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447-BC0C-4308-B949-56DF641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A1B1-3ABB-40EF-985B-B852343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14DAA-B3DF-462E-81FB-45A313F9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9B4D-EC0E-4338-9A43-F67A3B1F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0A2-E899-4D71-A6F6-AFB772E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EE3-F14E-44B2-A9B3-96E7A20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D9E2-A3FE-4788-AC7C-B450E51D58E1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D8DB-6DD6-4B01-B0FE-38E6924EBE76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AAB-7258-44FE-9CF1-C14B39247CDD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3ADE-98D5-492E-BD13-810A83D4E75B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3C5-629A-4ED9-9A92-162396D638F5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2F5F-EC7F-4C3F-8C21-566B4A49F834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Comic Sans MS"/>
              </a:rPr>
              <a:t>What do you think makes this baby human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13" descr="Thomas"/>
          <p:cNvPicPr/>
          <p:nvPr/>
        </p:nvPicPr>
        <p:blipFill>
          <a:blip r:embed="rId1"/>
          <a:stretch/>
        </p:blipFill>
        <p:spPr>
          <a:xfrm>
            <a:off x="1139760" y="1785960"/>
            <a:ext cx="7004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Cartoon Fu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Picture 10" descr=""/>
          <p:cNvPicPr/>
          <p:nvPr/>
        </p:nvPicPr>
        <p:blipFill>
          <a:blip r:embed="rId1"/>
          <a:srcRect l="1555" t="0" r="3660" b="1728"/>
          <a:stretch/>
        </p:blipFill>
        <p:spPr>
          <a:xfrm rot="5400000">
            <a:off x="66240" y="1861920"/>
            <a:ext cx="4357440" cy="40626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2"/>
          <a:stretch/>
        </p:blipFill>
        <p:spPr>
          <a:xfrm rot="5400000">
            <a:off x="4670640" y="2544120"/>
            <a:ext cx="6181560" cy="1950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"/>
          <p:cNvPicPr/>
          <p:nvPr/>
        </p:nvPicPr>
        <p:blipFill>
          <a:blip r:embed="rId3"/>
          <a:srcRect l="0" t="66768" r="7004" b="4335"/>
          <a:stretch/>
        </p:blipFill>
        <p:spPr>
          <a:xfrm rot="5400000">
            <a:off x="1571040" y="385740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4"/>
          <a:srcRect l="0" t="4624" r="7004" b="72258"/>
          <a:stretch/>
        </p:blipFill>
        <p:spPr>
          <a:xfrm rot="5400000">
            <a:off x="142200" y="2854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5"/>
          <a:srcRect l="0" t="37863" r="7004" b="41909"/>
          <a:stretch/>
        </p:blipFill>
        <p:spPr>
          <a:xfrm rot="5400000">
            <a:off x="1643040" y="35676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6"/>
          <a:srcRect l="8187" t="70217" r="31681" b="3476"/>
          <a:stretch/>
        </p:blipFill>
        <p:spPr>
          <a:xfrm rot="7072200">
            <a:off x="1462320" y="4746960"/>
            <a:ext cx="703080" cy="1311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7"/>
          <a:srcRect l="6111" t="2870" r="26549" b="64154"/>
          <a:stretch/>
        </p:blipFill>
        <p:spPr>
          <a:xfrm rot="5400000">
            <a:off x="5071680" y="785160"/>
            <a:ext cx="785880" cy="1643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8"/>
          <a:srcRect l="0" t="37288" r="8158" b="32606"/>
          <a:stretch/>
        </p:blipFill>
        <p:spPr>
          <a:xfrm rot="5400000">
            <a:off x="5000400" y="2142720"/>
            <a:ext cx="10717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Re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85480" y="1928520"/>
            <a:ext cx="86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re are chromosomes f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) In the nucle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) In the cyt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) In the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"/>
          <p:cNvSpPr/>
          <p:nvPr/>
        </p:nvSpPr>
        <p:spPr>
          <a:xfrm>
            <a:off x="1000080" y="2428920"/>
            <a:ext cx="3357720" cy="5713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5-Point Star 6"/>
          <p:cNvSpPr/>
          <p:nvPr/>
        </p:nvSpPr>
        <p:spPr>
          <a:xfrm>
            <a:off x="5357880" y="1785960"/>
            <a:ext cx="3643200" cy="3214800"/>
          </a:xfrm>
          <a:prstGeom prst="pie">
            <a:avLst/>
          </a:prstGeom>
          <a:solidFill>
            <a:srgbClr val="00b0f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2389"/>
                </a:solidFill>
                <a:latin typeface="Comic Sans MS"/>
              </a:rPr>
              <a:t>Well D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Sound-Effects - Crowd Cheer And Applause.mp3" descr=""/>
          <p:cNvPicPr/>
          <p:nvPr/>
        </p:nvPicPr>
        <p:blipFill>
          <a:blip r:embed="rId1"/>
          <a:stretch/>
        </p:blipFill>
        <p:spPr>
          <a:xfrm>
            <a:off x="7143840" y="47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9813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Re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5480" y="1928520"/>
            <a:ext cx="86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art of DNA that carries the code for a particular characteristic is called a: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) 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)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)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"/>
          <p:cNvSpPr/>
          <p:nvPr/>
        </p:nvSpPr>
        <p:spPr>
          <a:xfrm>
            <a:off x="642960" y="3857760"/>
            <a:ext cx="2214720" cy="5713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5-Point Star 6"/>
          <p:cNvSpPr/>
          <p:nvPr/>
        </p:nvSpPr>
        <p:spPr>
          <a:xfrm>
            <a:off x="3429000" y="3214800"/>
            <a:ext cx="3643200" cy="3214440"/>
          </a:xfrm>
          <a:prstGeom prst="pie">
            <a:avLst/>
          </a:prstGeom>
          <a:solidFill>
            <a:srgbClr val="00b0f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2389"/>
                </a:solidFill>
                <a:latin typeface="Comic Sans MS"/>
              </a:rPr>
              <a:t>Well D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Sound-Effects - Crowd Cheer And Applause.mp3" descr=""/>
          <p:cNvPicPr/>
          <p:nvPr/>
        </p:nvPicPr>
        <p:blipFill>
          <a:blip r:embed="rId1"/>
          <a:stretch/>
        </p:blipFill>
        <p:spPr>
          <a:xfrm>
            <a:off x="671508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981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Re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480" y="1928520"/>
            <a:ext cx="86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NA stands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)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oxyribo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cleic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)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oxyribo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cleic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k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)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n’t k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w the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785880" y="2428920"/>
            <a:ext cx="4929120" cy="5713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5-Point Star 6"/>
          <p:cNvSpPr/>
          <p:nvPr/>
        </p:nvSpPr>
        <p:spPr>
          <a:xfrm>
            <a:off x="5000760" y="3000240"/>
            <a:ext cx="3643200" cy="3214800"/>
          </a:xfrm>
          <a:prstGeom prst="pie">
            <a:avLst/>
          </a:prstGeom>
          <a:solidFill>
            <a:srgbClr val="00b0f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2389"/>
                </a:solidFill>
                <a:latin typeface="Comic Sans MS"/>
              </a:rPr>
              <a:t>Well D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Sound-Effects - Crowd Cheer And Applause.mp3" descr=""/>
          <p:cNvPicPr/>
          <p:nvPr/>
        </p:nvPicPr>
        <p:blipFill>
          <a:blip r:embed="rId1"/>
          <a:stretch/>
        </p:blipFill>
        <p:spPr>
          <a:xfrm>
            <a:off x="8072280" y="5286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39813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E-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1" name="Picture 1" descr=""/>
          <p:cNvPicPr/>
          <p:nvPr/>
        </p:nvPicPr>
        <p:blipFill>
          <a:blip r:embed="rId1"/>
          <a:srcRect l="36719" t="26390" r="35547" b="36808"/>
          <a:stretch/>
        </p:blipFill>
        <p:spPr>
          <a:xfrm>
            <a:off x="0" y="85716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362" name="Oval 3"/>
          <p:cNvSpPr/>
          <p:nvPr/>
        </p:nvSpPr>
        <p:spPr>
          <a:xfrm>
            <a:off x="3929040" y="3000240"/>
            <a:ext cx="135720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3929040" y="2643120"/>
            <a:ext cx="135720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3857760" y="2214720"/>
            <a:ext cx="15001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267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C-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Nobody in the whole world has the same DNA as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Can you </a:t>
            </a:r>
            <a:r>
              <a:rPr b="0" lang="en-GB" sz="3000" spc="-1" strike="noStrike">
                <a:solidFill>
                  <a:srgbClr val="ef2389"/>
                </a:solidFill>
                <a:latin typeface="Comic Sans MS"/>
              </a:rPr>
              <a:t>describe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 what DNA 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0" descr="DNA"/>
          <p:cNvPicPr/>
          <p:nvPr/>
        </p:nvPicPr>
        <p:blipFill>
          <a:blip r:embed="rId1"/>
          <a:stretch/>
        </p:blipFill>
        <p:spPr>
          <a:xfrm>
            <a:off x="4410000" y="3857760"/>
            <a:ext cx="4734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927000" y="2577960"/>
            <a:ext cx="7716960" cy="1603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00080" y="3857400"/>
            <a:ext cx="7500960" cy="680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To further our knowledg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6929280" y="0"/>
            <a:ext cx="221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A192-3F24-4366-B2FE-394E039B9FA3}" type="datetime3">
              <a:rPr b="0" lang="en-US" sz="2400" spc="-1" strike="noStrike" u="sng">
                <a:solidFill>
                  <a:srgbClr val="ef2389"/>
                </a:solidFill>
                <a:uFillTx/>
                <a:latin typeface="Comic Sans MS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0" y="0"/>
            <a:ext cx="2214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f2389"/>
                </a:solidFill>
                <a:uFillTx/>
                <a:latin typeface="Comic Sans MS"/>
              </a:rPr>
              <a:t>Clas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tle 1"/>
          <p:cNvSpPr/>
          <p:nvPr/>
        </p:nvSpPr>
        <p:spPr>
          <a:xfrm>
            <a:off x="857160" y="1571760"/>
            <a:ext cx="7715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Titl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- D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E-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rcRect l="36719" t="26390" r="35547" b="36808"/>
          <a:stretch/>
        </p:blipFill>
        <p:spPr>
          <a:xfrm>
            <a:off x="0" y="85716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267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C-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Nobody in the whole world has the same DNA as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Can you </a:t>
            </a:r>
            <a:r>
              <a:rPr b="0" lang="en-GB" sz="3000" spc="-1" strike="noStrike">
                <a:solidFill>
                  <a:srgbClr val="ef2389"/>
                </a:solidFill>
                <a:latin typeface="Comic Sans MS"/>
              </a:rPr>
              <a:t>describe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 what DNA 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0" descr="DNA"/>
          <p:cNvPicPr/>
          <p:nvPr/>
        </p:nvPicPr>
        <p:blipFill>
          <a:blip r:embed="rId1"/>
          <a:stretch/>
        </p:blipFill>
        <p:spPr>
          <a:xfrm>
            <a:off x="4410000" y="3857760"/>
            <a:ext cx="4734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2000160" y="2143080"/>
            <a:ext cx="47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10bc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umans have human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928880" y="114300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rganisms differ because they have different 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gen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7120" y="70920"/>
            <a:ext cx="861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 u="sng">
                <a:solidFill>
                  <a:srgbClr val="ffffff"/>
                </a:solidFill>
                <a:uFillTx/>
                <a:latin typeface="Comic Sans MS"/>
              </a:rPr>
              <a:t>What makes organisms differen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Picture 11" descr="gerbil_jeans"/>
          <p:cNvPicPr/>
          <p:nvPr/>
        </p:nvPicPr>
        <p:blipFill>
          <a:blip r:embed="rId1"/>
          <a:stretch/>
        </p:blipFill>
        <p:spPr>
          <a:xfrm>
            <a:off x="2071800" y="2857680"/>
            <a:ext cx="1746000" cy="2304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banana_jeans"/>
          <p:cNvPicPr/>
          <p:nvPr/>
        </p:nvPicPr>
        <p:blipFill>
          <a:blip r:embed="rId2"/>
          <a:stretch/>
        </p:blipFill>
        <p:spPr>
          <a:xfrm>
            <a:off x="3857760" y="428616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human_jeans"/>
          <p:cNvPicPr/>
          <p:nvPr/>
        </p:nvPicPr>
        <p:blipFill>
          <a:blip r:embed="rId3"/>
          <a:stretch/>
        </p:blipFill>
        <p:spPr>
          <a:xfrm>
            <a:off x="372960" y="1320840"/>
            <a:ext cx="1648080" cy="2254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4"/>
          <p:cNvSpPr/>
          <p:nvPr/>
        </p:nvSpPr>
        <p:spPr>
          <a:xfrm>
            <a:off x="3745080" y="3592440"/>
            <a:ext cx="42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10bc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rbils have gerbil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745240" y="4884840"/>
            <a:ext cx="33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10bc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nanas have (yes, you’ve guessed it) banana gen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0" y="528804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body else in the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whole worl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has the same DNA as yo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552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Genetic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143240"/>
            <a:ext cx="850104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cleus of living cells contain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chromosom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which are made up of a string of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gen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fferent genes control the development of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different characteristic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by issuing instructions to the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chromosome, showing gene as section of DNA"/>
          <p:cNvPicPr/>
          <p:nvPr/>
        </p:nvPicPr>
        <p:blipFill>
          <a:blip r:embed="rId1"/>
          <a:stretch/>
        </p:blipFill>
        <p:spPr>
          <a:xfrm>
            <a:off x="1212840" y="1285920"/>
            <a:ext cx="6913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" descr="DNA"/>
          <p:cNvPicPr/>
          <p:nvPr/>
        </p:nvPicPr>
        <p:blipFill>
          <a:blip r:embed="rId1"/>
          <a:stretch/>
        </p:blipFill>
        <p:spPr>
          <a:xfrm>
            <a:off x="1000080" y="1571760"/>
            <a:ext cx="4734000" cy="3733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42920" y="10000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hromosomes and their genes are made of a molecule called </a:t>
            </a:r>
            <a:r>
              <a:rPr b="1" lang="en-GB" sz="2400" spc="-1" strike="noStrike">
                <a:solidFill>
                  <a:srgbClr val="10bc45"/>
                </a:solidFill>
                <a:latin typeface="Comic Sans MS"/>
              </a:rPr>
              <a:t>DN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14200" y="56437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NA molecules carry the code that controls what cells are made of and what they 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3643200" y="1643040"/>
            <a:ext cx="2880000" cy="1366920"/>
          </a:xfrm>
          <a:prstGeom prst="roundRect">
            <a:avLst>
              <a:gd name="adj" fmla="val 5227"/>
            </a:avLst>
          </a:prstGeom>
          <a:noFill/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NA stands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oxyribo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cle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214200" y="4000680"/>
            <a:ext cx="3598920" cy="1366560"/>
          </a:xfrm>
          <a:prstGeom prst="roundRect">
            <a:avLst>
              <a:gd name="adj" fmla="val 6157"/>
            </a:avLst>
          </a:prstGeom>
          <a:noFill/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chromosom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s a very long molecu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f tightly coiled D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What is DNA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5857920" y="3143160"/>
            <a:ext cx="3143160" cy="2286000"/>
          </a:xfrm>
          <a:prstGeom prst="roundRect">
            <a:avLst>
              <a:gd name="adj" fmla="val 5227"/>
            </a:avLst>
          </a:prstGeom>
          <a:noFill/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DNA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ooks lik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wisted ladde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piral shap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le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DOUBLE HEL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285840" y="12859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double helix ‘ladder’ of a DNA molecule is held together by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‘rungs’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de from pairs of chemicals called 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bas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DNA Ba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285840" y="25002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re are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four types of bas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and they are usually identified by their init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4"/>
          <p:cNvGrpSpPr/>
          <p:nvPr/>
        </p:nvGrpSpPr>
        <p:grpSpPr>
          <a:xfrm>
            <a:off x="3500280" y="3429000"/>
            <a:ext cx="2159280" cy="642600"/>
            <a:chOff x="3500280" y="3429000"/>
            <a:chExt cx="2159280" cy="642600"/>
          </a:xfrm>
        </p:grpSpPr>
        <p:pic>
          <p:nvPicPr>
            <p:cNvPr id="296" name="Picture 21" descr="a_base"/>
            <p:cNvPicPr/>
            <p:nvPr/>
          </p:nvPicPr>
          <p:blipFill>
            <a:blip r:embed="rId1"/>
            <a:stretch/>
          </p:blipFill>
          <p:spPr>
            <a:xfrm>
              <a:off x="3500280" y="3471840"/>
              <a:ext cx="215928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5"/>
            <p:cNvSpPr/>
            <p:nvPr/>
          </p:nvSpPr>
          <p:spPr>
            <a:xfrm>
              <a:off x="3638160" y="342900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3500280" y="5572080"/>
            <a:ext cx="997200" cy="642600"/>
            <a:chOff x="3500280" y="5572080"/>
            <a:chExt cx="997200" cy="642600"/>
          </a:xfrm>
        </p:grpSpPr>
        <p:pic>
          <p:nvPicPr>
            <p:cNvPr id="299" name="Picture 24" descr="t_base"/>
            <p:cNvPicPr/>
            <p:nvPr/>
          </p:nvPicPr>
          <p:blipFill>
            <a:blip r:embed="rId2"/>
            <a:stretch/>
          </p:blipFill>
          <p:spPr>
            <a:xfrm>
              <a:off x="3500280" y="5601960"/>
              <a:ext cx="997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26"/>
            <p:cNvSpPr/>
            <p:nvPr/>
          </p:nvSpPr>
          <p:spPr>
            <a:xfrm>
              <a:off x="3638160" y="557208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3500280" y="4133880"/>
            <a:ext cx="1659240" cy="642600"/>
            <a:chOff x="3500280" y="4133880"/>
            <a:chExt cx="1659240" cy="642600"/>
          </a:xfrm>
        </p:grpSpPr>
        <p:pic>
          <p:nvPicPr>
            <p:cNvPr id="302" name="Picture 22" descr="c_base"/>
            <p:cNvPicPr/>
            <p:nvPr/>
          </p:nvPicPr>
          <p:blipFill>
            <a:blip r:embed="rId3"/>
            <a:stretch/>
          </p:blipFill>
          <p:spPr>
            <a:xfrm>
              <a:off x="3500280" y="4171680"/>
              <a:ext cx="16592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7"/>
            <p:cNvSpPr/>
            <p:nvPr/>
          </p:nvSpPr>
          <p:spPr>
            <a:xfrm>
              <a:off x="3638160" y="413388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3500280" y="4848120"/>
            <a:ext cx="1573200" cy="642600"/>
            <a:chOff x="3500280" y="4848120"/>
            <a:chExt cx="1573200" cy="642600"/>
          </a:xfrm>
        </p:grpSpPr>
        <p:pic>
          <p:nvPicPr>
            <p:cNvPr id="305" name="Picture 23" descr="g_base"/>
            <p:cNvPicPr/>
            <p:nvPr/>
          </p:nvPicPr>
          <p:blipFill>
            <a:blip r:embed="rId4"/>
            <a:stretch/>
          </p:blipFill>
          <p:spPr>
            <a:xfrm>
              <a:off x="3500280" y="4885920"/>
              <a:ext cx="157320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28"/>
            <p:cNvSpPr/>
            <p:nvPr/>
          </p:nvSpPr>
          <p:spPr>
            <a:xfrm>
              <a:off x="3638160" y="484812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285840" y="1143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se pairs hold the two strands of the DNA helix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42920" y="571500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the sequence of these bases along a DNA molecule that forms the 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genetic code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– it’s that simp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DNA Ba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571680" y="2143080"/>
            <a:ext cx="3024000" cy="2857320"/>
            <a:chOff x="571680" y="2143080"/>
            <a:chExt cx="3024000" cy="2857320"/>
          </a:xfrm>
        </p:grpSpPr>
        <p:sp>
          <p:nvSpPr>
            <p:cNvPr id="311" name="Rectangle 30"/>
            <p:cNvSpPr/>
            <p:nvPr/>
          </p:nvSpPr>
          <p:spPr>
            <a:xfrm>
              <a:off x="642960" y="2143080"/>
              <a:ext cx="142560" cy="27860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3429000" y="2143080"/>
              <a:ext cx="142560" cy="27860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27"/>
            <p:cNvGrpSpPr/>
            <p:nvPr/>
          </p:nvGrpSpPr>
          <p:grpSpPr>
            <a:xfrm>
              <a:off x="571680" y="2143080"/>
              <a:ext cx="3024000" cy="2857320"/>
              <a:chOff x="571680" y="2143080"/>
              <a:chExt cx="3024000" cy="2857320"/>
            </a:xfrm>
          </p:grpSpPr>
          <p:grpSp>
            <p:nvGrpSpPr>
              <p:cNvPr id="314" name="Group 15"/>
              <p:cNvGrpSpPr/>
              <p:nvPr/>
            </p:nvGrpSpPr>
            <p:grpSpPr>
              <a:xfrm>
                <a:off x="571680" y="2857320"/>
                <a:ext cx="3003480" cy="642600"/>
                <a:chOff x="571680" y="2857320"/>
                <a:chExt cx="3003480" cy="642600"/>
              </a:xfrm>
            </p:grpSpPr>
            <p:pic>
              <p:nvPicPr>
                <p:cNvPr id="315" name="Picture 23" descr="a_bas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680" y="2900160"/>
                  <a:ext cx="215892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6" descr="t_base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78320" y="2896920"/>
                  <a:ext cx="9968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Text Box 27"/>
                <p:cNvSpPr/>
                <p:nvPr/>
              </p:nvSpPr>
              <p:spPr>
                <a:xfrm>
                  <a:off x="709560" y="285732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A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8"/>
                <p:cNvSpPr/>
                <p:nvPr/>
              </p:nvSpPr>
              <p:spPr>
                <a:xfrm>
                  <a:off x="2968920" y="285732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T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6"/>
              <p:cNvGrpSpPr/>
              <p:nvPr/>
            </p:nvGrpSpPr>
            <p:grpSpPr>
              <a:xfrm>
                <a:off x="571680" y="2143080"/>
                <a:ext cx="3024000" cy="642600"/>
                <a:chOff x="571680" y="2143080"/>
                <a:chExt cx="3024000" cy="642600"/>
              </a:xfrm>
            </p:grpSpPr>
            <p:pic>
              <p:nvPicPr>
                <p:cNvPr id="320" name="Picture 24" descr="c_base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1680" y="2178000"/>
                  <a:ext cx="165888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5" descr="g_base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22480" y="2178000"/>
                  <a:ext cx="157320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2" name="Text Box 29"/>
                <p:cNvSpPr/>
                <p:nvPr/>
              </p:nvSpPr>
              <p:spPr>
                <a:xfrm>
                  <a:off x="714240" y="214308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30"/>
                <p:cNvSpPr/>
                <p:nvPr/>
              </p:nvSpPr>
              <p:spPr>
                <a:xfrm>
                  <a:off x="2986200" y="214308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G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17"/>
              <p:cNvGrpSpPr/>
              <p:nvPr/>
            </p:nvGrpSpPr>
            <p:grpSpPr>
              <a:xfrm>
                <a:off x="571680" y="3643200"/>
                <a:ext cx="3024000" cy="642600"/>
                <a:chOff x="571680" y="3643200"/>
                <a:chExt cx="3024000" cy="642600"/>
              </a:xfrm>
            </p:grpSpPr>
            <p:pic>
              <p:nvPicPr>
                <p:cNvPr id="325" name="Picture 24" descr="c_base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680" y="3678120"/>
                  <a:ext cx="165888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5" descr="g_base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22480" y="3678120"/>
                  <a:ext cx="157320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Text Box 29"/>
                <p:cNvSpPr/>
                <p:nvPr/>
              </p:nvSpPr>
              <p:spPr>
                <a:xfrm>
                  <a:off x="714240" y="36432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30"/>
                <p:cNvSpPr/>
                <p:nvPr/>
              </p:nvSpPr>
              <p:spPr>
                <a:xfrm>
                  <a:off x="2986200" y="36432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G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22"/>
              <p:cNvGrpSpPr/>
              <p:nvPr/>
            </p:nvGrpSpPr>
            <p:grpSpPr>
              <a:xfrm>
                <a:off x="571680" y="4357800"/>
                <a:ext cx="3003480" cy="642600"/>
                <a:chOff x="571680" y="4357800"/>
                <a:chExt cx="3003480" cy="642600"/>
              </a:xfrm>
            </p:grpSpPr>
            <p:pic>
              <p:nvPicPr>
                <p:cNvPr id="330" name="Picture 23" descr="a_bas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71680" y="4400640"/>
                  <a:ext cx="215892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26" descr="t_bas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78320" y="4397400"/>
                  <a:ext cx="9968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Text Box 27"/>
                <p:cNvSpPr/>
                <p:nvPr/>
              </p:nvSpPr>
              <p:spPr>
                <a:xfrm>
                  <a:off x="709560" y="43578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A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Text Box 28"/>
                <p:cNvSpPr/>
                <p:nvPr/>
              </p:nvSpPr>
              <p:spPr>
                <a:xfrm>
                  <a:off x="2968920" y="43578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T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4" name="Picture 20" descr="DNA"/>
          <p:cNvPicPr/>
          <p:nvPr/>
        </p:nvPicPr>
        <p:blipFill>
          <a:blip r:embed="rId9"/>
          <a:srcRect l="51311" t="36356" r="0" b="0"/>
          <a:stretch/>
        </p:blipFill>
        <p:spPr>
          <a:xfrm>
            <a:off x="5786280" y="2500200"/>
            <a:ext cx="2305080" cy="2376720"/>
          </a:xfrm>
          <a:prstGeom prst="rect">
            <a:avLst/>
          </a:prstGeom>
          <a:ln w="0">
            <a:noFill/>
          </a:ln>
        </p:spPr>
      </p:pic>
      <p:sp>
        <p:nvSpPr>
          <p:cNvPr id="335" name="Right Brace 34"/>
          <p:cNvSpPr/>
          <p:nvPr/>
        </p:nvSpPr>
        <p:spPr>
          <a:xfrm>
            <a:off x="4214880" y="2143080"/>
            <a:ext cx="1000080" cy="2857680"/>
          </a:xfrm>
          <a:custGeom>
            <a:avLst/>
            <a:gdLst>
              <a:gd name="textAreaLeft" fmla="*/ 0 w 1000080"/>
              <a:gd name="textAreaRight" fmla="*/ 361080 w 1000080"/>
              <a:gd name="textAreaTop" fmla="*/ 68760 h 2857680"/>
              <a:gd name="textAreaBottom" fmla="*/ 2788920 h 285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2"/>
                  <a:pt x="10800" y="1664"/>
                </a:cubicBezTo>
                <a:lnTo>
                  <a:pt x="10800" y="9136"/>
                </a:lnTo>
                <a:cubicBezTo>
                  <a:pt x="10800" y="9968"/>
                  <a:pt x="16200" y="10800"/>
                  <a:pt x="21600" y="10800"/>
                </a:cubicBezTo>
                <a:cubicBezTo>
                  <a:pt x="16200" y="10800"/>
                  <a:pt x="10800" y="11632"/>
                  <a:pt x="10800" y="12464"/>
                </a:cubicBezTo>
                <a:lnTo>
                  <a:pt x="10800" y="19936"/>
                </a:lnTo>
                <a:cubicBezTo>
                  <a:pt x="10800" y="2076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ef23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6:58:32Z</dcterms:created>
  <dc:creator>J &amp; C</dc:creator>
  <dc:description/>
  <dc:language>en-US</dc:language>
  <cp:lastModifiedBy>Pepe</cp:lastModifiedBy>
  <dcterms:modified xsi:type="dcterms:W3CDTF">2011-02-17T11:46:26Z</dcterms:modified>
  <cp:revision>18</cp:revision>
  <dc:subject/>
  <dc:title>Learning Objective</dc:title>
</cp:coreProperties>
</file>